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696F-9BF2-4797-B8DD-6508504A2BF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F0F7-1CE8-4C0A-A904-1F5CEB18649E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DBA6-263D-437A-BDD8-6AFA017ED21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66F0-AAFE-47BE-99C9-C07637129F5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429A-46EC-46F2-A571-26FE5B0B6BFC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E662-3A41-4FD7-9955-E0A966B6E978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DF3E-D30E-46AA-A297-A551A43C330C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CD1B-CE29-498A-B229-BD96731449A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3B79-08CE-4E5E-A100-EB6FE1BCBC78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03D1-424D-48A7-8F0A-1B2C1BC65CA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6B37-9118-4EEB-B5D4-FCAC0869881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9594-73F3-4357-8DB0-2CDD085CC82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02B9-937B-473D-AC97-A7856CB2DE6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CED7-22CE-48FE-B679-8F314A233CD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781D-551F-4A18-869C-35C032FFD90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7808-236C-45BF-8220-3F3B0FF3469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4DA7-0F06-4922-BC42-743ECD82687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8683-5216-4C73-B8C3-47353FBEF2A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89D2-0D00-48B2-A970-BCAE5B8191EA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C0B3-2CA4-48B3-A2D4-BEF280623ED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FB76-DBBC-468A-BAB3-501F69CB6AF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DCE5-5D3D-4C8B-BD63-F52D27D900AF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166E-D418-4F87-87CC-94F4F64A7B3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DD09-6E2C-42BE-821B-C2CD4E8F9F8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AF5C-94D9-4C4D-88C2-D8881F50A21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B71A-13D3-4EF6-997F-36901F45F90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6339-5F5E-4167-A0FB-645AD2AE159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EC82-52A3-4230-AC69-426EBF43C25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C61C-31C8-4491-B9A2-C910F0DBEB7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3452-4EE9-4961-9A56-8CC20E354B2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D70D-756B-47E1-A85F-16F37D5EEF5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E079-A60C-4B53-876D-E2FEA9FA0DB9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7302-84B2-4B39-9D67-3141153E0A6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24BA-23AD-4CBF-874B-75AAC80E43B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65F1-2303-424B-A470-8022F777E4B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C1E8-01C3-406E-B013-DCE6245297A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FB75-41FE-458D-864B-2D6514A28AB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4BAF-C75A-4664-8552-F4F547DA554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8DAB-DC8F-4C6A-8A4C-C02ECBF8189E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8129-DA76-4B7E-BBCA-DDA77753FC4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E2C3-82DF-4B07-BB89-25C29CE03EA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FCBE-8AAB-4481-8DEE-254FDC43F522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4A4F-F0FA-4942-8BA7-BF210A5B50C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F7B5-D7B8-4E01-A909-1490EC8B5F7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3377-ADD5-4723-B959-5BAEAB961F3A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81C9-5C28-41AE-B667-D1860CFC67CF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154E-B824-45E7-8F0D-38FF10570A7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7F89-BF43-47AF-AA77-2DA429E828E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4282-060A-4807-A7CB-DB69B77F7E44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7BF7-ED23-4DEA-9EF1-80415E299BA5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1ED3-6832-447E-901F-C38DC502448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7A88-FA74-471D-B642-DB0F3ED5857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ED84-CD1E-4E8B-98E8-3D65E9D2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62B-89D1-4079-B8C6-067D345C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221-458A-4B75-9211-2D02D964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374-A7BD-4138-A05F-9243953C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3651-ADC3-4DC7-A963-9BAC666A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6EB-008D-46AD-BD7C-1F6B4E67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F56-5E07-4E5D-A580-10EC2BD2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A54-DC3B-4486-984D-C71FCFC2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CFE-81D2-4989-88D6-42EB235D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E143-2095-401D-90BF-A2A2E23A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F13-8C0E-4192-9F93-748A7D0E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558D-B882-4CE5-AC13-305627EE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DB19-8EA0-40E8-97EC-25C9E578E57A}" type="slidenum"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sponse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ntervention (RTI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TI at Tier II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7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mponents of Tier II Instruction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9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TI at Tier III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1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mponents of Tier III Instruction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3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Making Determi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bout Instruction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5" name="Picture 4" descr="14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TI Navigation Team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7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TI Grade Level Teams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9" name="Picture 4" descr="16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TI Support Team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1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TI Evaluation Team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3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TI Team Involv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n Three Tier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5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e RTI Model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Problem-Solving Process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7" name="Picture 4" descr="20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Problem-Solving Process (continued)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9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Functions of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Problem-Solving Process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1" name="Picture 4" descr="22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Personalized Learner Assessment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3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Benefits of Personaliz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Learner Assessment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5" name="Picture 4" descr="24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inking and Learning Styles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7" name="Picture 4" descr="25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Multiple Intelligences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9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Multiple Intelligences (continued)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01" name="Picture 4" descr="27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cademic Assessment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03" name="Picture 4" descr="28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creening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05" name="Picture 4" descr="29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Key Elements of RTI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3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xamples of Scree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ndicators and Tools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07" name="Picture 4" descr="30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Diagnostic Evaluation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09" name="Picture 4" descr="31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xamples of Measurab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cademic Skills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Diagnostic Assessments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1" name="Picture 5" descr="32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Progress Monitoring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3" name="Picture 4" descr="3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Outcome Assessment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5" name="Picture 4" descr="34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ummary of Academic Assessment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7" name="Picture 4" descr="35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Using Assessment to Mak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Decisions About Instruction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9" name="Picture 4" descr="36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Movement fr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ier I to Tier II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1" name="Picture 4" descr="37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Movement fr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ier II to Tier III 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3" name="Picture 4" descr="38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Movement fr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ier III to Tier II or I 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5" name="Picture 4" descr="39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taff Collabo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ithin the RTI Model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5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ligibility for Speci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ducation Services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7" name="Picture 4" descr="40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mpiling Inform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n an Educational Profile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9" name="Picture 4" descr="41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lements of an Educational Profile  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1" name="Picture 4" descr="42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ources of Data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n Educational Profile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3" name="Picture 4" descr="43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Meeting the Uniqu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Learning Needs of Student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5" name="Picture 4" descr="44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General Grouping Guidelin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7" name="Picture 4" descr="45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Grouping Students at Tier I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39" name="Picture 4" descr="46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Grouping Students at Tier II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1" name="Picture 4" descr="47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Grouping Students at Tier III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3" name="Picture 4" descr="48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search-Based Teach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ithin the RTI Mode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5" name="Picture 4" descr="49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Benefits of RTI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7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dapting Instruc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7" name="Picture 4" descr="50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 Final Word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9" name="Picture 4" descr="51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Benefits of RTI (continued)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9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 Multi-Tier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nstruction Mode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1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TI at Tier I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3" name="Picture 5" descr="8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mponents of Tier I Instruction 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65" name="Picture 5" descr="9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8:30:41Z</dcterms:created>
  <dc:creator>Michelle Lee</dc:creator>
  <dc:description/>
  <dc:language>en-US</dc:language>
  <cp:lastModifiedBy>SAS</cp:lastModifiedBy>
  <dcterms:modified xsi:type="dcterms:W3CDTF">2011-09-12T18:17:27Z</dcterms:modified>
  <cp:revision>10</cp:revision>
  <dc:subject/>
  <dc:title>PowerPoint Presentation</dc:title>
</cp:coreProperties>
</file>